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3B70-CFE7-4B74-BCF5-E0FC33D7AB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28AC-9F39-44BB-81A3-E8880DDD3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AA5-62ED-4760-9B32-6D41232E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E02-869F-4040-85C3-DC8D5D69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C19-64F4-4EEC-9AD8-C2DCA7FE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F82-5BB4-46DE-AF80-889641D6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B17-2AD5-4E1D-B0F9-B5F2BEAD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397-0F4D-4509-9F13-ADD6BC42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45E-2E9A-468A-840C-A9DB1D8F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17E-BE16-45E7-B26A-83A9C0CB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EE6-AA36-4E6A-A406-E4264BA4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B21-3E0B-4ACE-9821-1F5A6ACD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1499-D90B-4861-BC42-EBE339EC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222-C0F9-4C33-8D29-E7CA045B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C3B2-0A96-494C-9E8A-D600B26C42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hemic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90360" y="1724040"/>
            <a:ext cx="8945640" cy="1200240"/>
            <a:chOff x="90360" y="1724040"/>
            <a:chExt cx="8945640" cy="1200240"/>
          </a:xfrm>
        </p:grpSpPr>
        <p:sp>
          <p:nvSpPr>
            <p:cNvPr id="121" name="Oval 5"/>
            <p:cNvSpPr/>
            <p:nvPr/>
          </p:nvSpPr>
          <p:spPr>
            <a:xfrm>
              <a:off x="90360" y="1756080"/>
              <a:ext cx="1168560" cy="11682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6"/>
            <p:cNvSpPr/>
            <p:nvPr/>
          </p:nvSpPr>
          <p:spPr>
            <a:xfrm>
              <a:off x="1260360" y="1756080"/>
              <a:ext cx="669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4068720" y="2332080"/>
              <a:ext cx="100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8"/>
            <p:cNvGrpSpPr/>
            <p:nvPr/>
          </p:nvGrpSpPr>
          <p:grpSpPr>
            <a:xfrm>
              <a:off x="1908000" y="1756080"/>
              <a:ext cx="2089080" cy="1168200"/>
              <a:chOff x="1908000" y="1756080"/>
              <a:chExt cx="2089080" cy="1168200"/>
            </a:xfrm>
          </p:grpSpPr>
          <p:sp>
            <p:nvSpPr>
              <p:cNvPr id="125" name="Oval 9"/>
              <p:cNvSpPr/>
              <p:nvPr/>
            </p:nvSpPr>
            <p:spPr>
              <a:xfrm>
                <a:off x="1908000" y="1756080"/>
                <a:ext cx="1168560" cy="116820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10"/>
              <p:cNvSpPr/>
              <p:nvPr/>
            </p:nvSpPr>
            <p:spPr>
              <a:xfrm>
                <a:off x="2828880" y="17560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11"/>
              <p:cNvSpPr/>
              <p:nvPr/>
            </p:nvSpPr>
            <p:spPr>
              <a:xfrm>
                <a:off x="1908000" y="1756080"/>
                <a:ext cx="1168560" cy="116820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12"/>
            <p:cNvSpPr/>
            <p:nvPr/>
          </p:nvSpPr>
          <p:spPr>
            <a:xfrm>
              <a:off x="7237440" y="1756080"/>
              <a:ext cx="669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"/>
            <p:cNvSpPr/>
            <p:nvPr/>
          </p:nvSpPr>
          <p:spPr>
            <a:xfrm>
              <a:off x="7867800" y="1739880"/>
              <a:ext cx="1168200" cy="116856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14"/>
            <p:cNvGrpSpPr/>
            <p:nvPr/>
          </p:nvGrpSpPr>
          <p:grpSpPr>
            <a:xfrm>
              <a:off x="5148360" y="1724040"/>
              <a:ext cx="2136600" cy="1184040"/>
              <a:chOff x="5148360" y="1724040"/>
              <a:chExt cx="2136600" cy="1184040"/>
            </a:xfrm>
          </p:grpSpPr>
          <p:sp>
            <p:nvSpPr>
              <p:cNvPr id="131" name="Oval 15"/>
              <p:cNvSpPr/>
              <p:nvPr/>
            </p:nvSpPr>
            <p:spPr>
              <a:xfrm>
                <a:off x="5148360" y="17398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6"/>
              <p:cNvSpPr/>
              <p:nvPr/>
            </p:nvSpPr>
            <p:spPr>
              <a:xfrm>
                <a:off x="6116760" y="17398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7"/>
              <p:cNvSpPr/>
              <p:nvPr/>
            </p:nvSpPr>
            <p:spPr>
              <a:xfrm>
                <a:off x="5164200" y="172404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18"/>
          <p:cNvSpPr/>
          <p:nvPr/>
        </p:nvSpPr>
        <p:spPr>
          <a:xfrm>
            <a:off x="250920" y="364500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eaction where an element displaces another element in a compound, producing a new compound and a new e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4"/>
          <p:cNvGrpSpPr/>
          <p:nvPr/>
        </p:nvGrpSpPr>
        <p:grpSpPr>
          <a:xfrm>
            <a:off x="0" y="2060640"/>
            <a:ext cx="9143640" cy="3444480"/>
            <a:chOff x="0" y="2060640"/>
            <a:chExt cx="9143640" cy="3444480"/>
          </a:xfrm>
        </p:grpSpPr>
        <p:pic>
          <p:nvPicPr>
            <p:cNvPr id="137" name="Picture 19" descr="1"/>
            <p:cNvPicPr/>
            <p:nvPr/>
          </p:nvPicPr>
          <p:blipFill>
            <a:blip r:embed="rId1"/>
            <a:stretch/>
          </p:blipFill>
          <p:spPr>
            <a:xfrm>
              <a:off x="0" y="2060640"/>
              <a:ext cx="4551480" cy="34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1" descr="2"/>
            <p:cNvPicPr/>
            <p:nvPr/>
          </p:nvPicPr>
          <p:blipFill>
            <a:blip r:embed="rId2"/>
            <a:stretch/>
          </p:blipFill>
          <p:spPr>
            <a:xfrm>
              <a:off x="4551480" y="2060640"/>
              <a:ext cx="4592160" cy="344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Text Box 26"/>
          <p:cNvSpPr/>
          <p:nvPr/>
        </p:nvSpPr>
        <p:spPr>
          <a:xfrm>
            <a:off x="611280" y="1125360"/>
            <a:ext cx="8497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A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Ag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92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495800" y="981000"/>
            <a:ext cx="641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NaO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42139941BkcDHm_ph"/>
          <p:cNvPicPr/>
          <p:nvPr/>
        </p:nvPicPr>
        <p:blipFill>
          <a:blip r:embed="rId1"/>
          <a:stretch/>
        </p:blipFill>
        <p:spPr>
          <a:xfrm>
            <a:off x="2843280" y="1844640"/>
            <a:ext cx="35193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880560" y="1052640"/>
            <a:ext cx="7698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g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2A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2Ag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122560" y="1989000"/>
            <a:ext cx="50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ll this reaction occur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332000" y="4508640"/>
            <a:ext cx="6406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second reaction does not occur. How will you know if a single displacement reaction will occur or not?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278136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Zn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1" lang="en-CA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H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Z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192760" y="3789360"/>
            <a:ext cx="52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about this react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7"/>
          <p:cNvSpPr/>
          <p:nvPr/>
        </p:nvSpPr>
        <p:spPr>
          <a:xfrm>
            <a:off x="0" y="1413000"/>
            <a:ext cx="334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activity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also on page 193, Table 5.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o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 Hot and Who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 Not Analogy</a:t>
            </a:r>
            <a:r>
              <a:rPr b="1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9"/>
          <p:cNvGrpSpPr/>
          <p:nvPr/>
        </p:nvGrpSpPr>
        <p:grpSpPr>
          <a:xfrm>
            <a:off x="3471840" y="692280"/>
            <a:ext cx="5637240" cy="6165720"/>
            <a:chOff x="3471840" y="692280"/>
            <a:chExt cx="5637240" cy="6165720"/>
          </a:xfrm>
        </p:grpSpPr>
        <p:pic>
          <p:nvPicPr>
            <p:cNvPr id="151" name="Picture 6" descr="tool0403"/>
            <p:cNvPicPr/>
            <p:nvPr/>
          </p:nvPicPr>
          <p:blipFill>
            <a:blip r:embed="rId1"/>
            <a:stretch/>
          </p:blipFill>
          <p:spPr>
            <a:xfrm>
              <a:off x="3471840" y="1052640"/>
              <a:ext cx="5637240" cy="58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Rectangle 8"/>
            <p:cNvSpPr/>
            <p:nvPr/>
          </p:nvSpPr>
          <p:spPr>
            <a:xfrm>
              <a:off x="3492360" y="692280"/>
              <a:ext cx="1008360" cy="64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8"/>
          <p:cNvGrpSpPr/>
          <p:nvPr/>
        </p:nvGrpSpPr>
        <p:grpSpPr>
          <a:xfrm>
            <a:off x="5867280" y="765000"/>
            <a:ext cx="5569200" cy="6092640"/>
            <a:chOff x="5867280" y="765000"/>
            <a:chExt cx="5569200" cy="6092640"/>
          </a:xfrm>
        </p:grpSpPr>
        <p:pic>
          <p:nvPicPr>
            <p:cNvPr id="155" name="Picture 9" descr="tool0403"/>
            <p:cNvPicPr/>
            <p:nvPr/>
          </p:nvPicPr>
          <p:blipFill>
            <a:blip r:embed="rId1"/>
            <a:stretch/>
          </p:blipFill>
          <p:spPr>
            <a:xfrm>
              <a:off x="5867280" y="1121040"/>
              <a:ext cx="5569200" cy="57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0"/>
            <p:cNvSpPr/>
            <p:nvPr/>
          </p:nvSpPr>
          <p:spPr>
            <a:xfrm>
              <a:off x="5887440" y="765000"/>
              <a:ext cx="996120" cy="64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127960" y="1052640"/>
            <a:ext cx="344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Zn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82600" y="2201760"/>
            <a:ext cx="50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ll this reaction occur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867280" y="2924280"/>
            <a:ext cx="1729080" cy="217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5867280" y="3645000"/>
            <a:ext cx="1729080" cy="217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973080" y="350028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action will not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18"/>
          <p:cNvGrpSpPr/>
          <p:nvPr/>
        </p:nvGrpSpPr>
        <p:grpSpPr>
          <a:xfrm>
            <a:off x="-361800" y="1557360"/>
            <a:ext cx="9505800" cy="5838480"/>
            <a:chOff x="-361800" y="1557360"/>
            <a:chExt cx="9505800" cy="5838480"/>
          </a:xfrm>
        </p:grpSpPr>
        <p:grpSp>
          <p:nvGrpSpPr>
            <p:cNvPr id="164" name="Group 15"/>
            <p:cNvGrpSpPr/>
            <p:nvPr/>
          </p:nvGrpSpPr>
          <p:grpSpPr>
            <a:xfrm>
              <a:off x="-361800" y="1557360"/>
              <a:ext cx="9505800" cy="5838480"/>
              <a:chOff x="-361800" y="1557360"/>
              <a:chExt cx="9505800" cy="5838480"/>
            </a:xfrm>
          </p:grpSpPr>
          <p:pic>
            <p:nvPicPr>
              <p:cNvPr id="165" name="Picture 13" descr="38_modern_periodic_table"/>
              <p:cNvPicPr/>
              <p:nvPr/>
            </p:nvPicPr>
            <p:blipFill>
              <a:blip r:embed="rId1"/>
              <a:stretch/>
            </p:blipFill>
            <p:spPr>
              <a:xfrm>
                <a:off x="-96120" y="2026440"/>
                <a:ext cx="9240120" cy="519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Rectangle 14"/>
              <p:cNvSpPr/>
              <p:nvPr/>
            </p:nvSpPr>
            <p:spPr>
              <a:xfrm>
                <a:off x="-361800" y="1557360"/>
                <a:ext cx="7744680" cy="583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AutoShape 16"/>
            <p:cNvSpPr/>
            <p:nvPr/>
          </p:nvSpPr>
          <p:spPr>
            <a:xfrm>
              <a:off x="6443640" y="3141720"/>
              <a:ext cx="936720" cy="2448000"/>
            </a:xfrm>
            <a:prstGeom prst="upArrow">
              <a:avLst>
                <a:gd name="adj1" fmla="val 50000"/>
                <a:gd name="adj2" fmla="val 65334"/>
              </a:avLst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 rot="16200000">
              <a:off x="5836680" y="42534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TIVE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196720" y="1628640"/>
            <a:ext cx="3844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CaB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898560" y="2708280"/>
            <a:ext cx="50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Will this reaction occur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826920" y="335772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action will not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8319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Involving haloge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7885080" y="4581360"/>
            <a:ext cx="574560" cy="5032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7885080" y="4076640"/>
            <a:ext cx="574560" cy="503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1"/>
          <p:cNvSpPr/>
          <p:nvPr/>
        </p:nvSpPr>
        <p:spPr>
          <a:xfrm>
            <a:off x="826920" y="4365720"/>
            <a:ext cx="5329440" cy="2303280"/>
          </a:xfrm>
          <a:prstGeom prst="wedgeRoundRectCallout">
            <a:avLst>
              <a:gd name="adj1" fmla="val 85240"/>
              <a:gd name="adj2" fmla="val -25671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The position of halogens in the periodic table tells you how reactive they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-361800" y="1557360"/>
            <a:ext cx="9505800" cy="5838480"/>
            <a:chOff x="-361800" y="1557360"/>
            <a:chExt cx="9505800" cy="5838480"/>
          </a:xfrm>
        </p:grpSpPr>
        <p:grpSp>
          <p:nvGrpSpPr>
            <p:cNvPr id="178" name="Group 3"/>
            <p:cNvGrpSpPr/>
            <p:nvPr/>
          </p:nvGrpSpPr>
          <p:grpSpPr>
            <a:xfrm>
              <a:off x="-361800" y="1557360"/>
              <a:ext cx="9505800" cy="5838480"/>
              <a:chOff x="-361800" y="1557360"/>
              <a:chExt cx="9505800" cy="5838480"/>
            </a:xfrm>
          </p:grpSpPr>
          <p:pic>
            <p:nvPicPr>
              <p:cNvPr id="179" name="Picture 4" descr="38_modern_periodic_table"/>
              <p:cNvPicPr/>
              <p:nvPr/>
            </p:nvPicPr>
            <p:blipFill>
              <a:blip r:embed="rId1"/>
              <a:stretch/>
            </p:blipFill>
            <p:spPr>
              <a:xfrm>
                <a:off x="-96120" y="2026440"/>
                <a:ext cx="9240120" cy="519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Rectangle 5"/>
              <p:cNvSpPr/>
              <p:nvPr/>
            </p:nvSpPr>
            <p:spPr>
              <a:xfrm>
                <a:off x="-361800" y="1557360"/>
                <a:ext cx="7744680" cy="583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AutoShape 6"/>
            <p:cNvSpPr/>
            <p:nvPr/>
          </p:nvSpPr>
          <p:spPr>
            <a:xfrm>
              <a:off x="6443640" y="3141720"/>
              <a:ext cx="936720" cy="2448000"/>
            </a:xfrm>
            <a:prstGeom prst="upArrow">
              <a:avLst>
                <a:gd name="adj1" fmla="val 50000"/>
                <a:gd name="adj2" fmla="val 65334"/>
              </a:avLst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 rot="16200000">
              <a:off x="5836680" y="42534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TIVE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92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2124000" y="1628640"/>
            <a:ext cx="413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KB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898560" y="2708280"/>
            <a:ext cx="50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Will this reaction occur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324000" y="3645000"/>
            <a:ext cx="712944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act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2KB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B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8319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Involving haloge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7885080" y="3573360"/>
            <a:ext cx="574560" cy="5032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7885080" y="4076640"/>
            <a:ext cx="574560" cy="5032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900000" y="4869000"/>
            <a:ext cx="73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 + BC </a:t>
            </a:r>
            <a:r>
              <a:rPr b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AC + B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6"/>
          <p:cNvGrpSpPr/>
          <p:nvPr/>
        </p:nvGrpSpPr>
        <p:grpSpPr>
          <a:xfrm>
            <a:off x="0" y="2781360"/>
            <a:ext cx="9143640" cy="1028520"/>
            <a:chOff x="0" y="2781360"/>
            <a:chExt cx="9143640" cy="1028520"/>
          </a:xfrm>
        </p:grpSpPr>
        <p:sp>
          <p:nvSpPr>
            <p:cNvPr id="193" name="Text Box 6"/>
            <p:cNvSpPr/>
            <p:nvPr/>
          </p:nvSpPr>
          <p:spPr>
            <a:xfrm>
              <a:off x="1765080" y="285264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7"/>
            <p:cNvSpPr/>
            <p:nvPr/>
          </p:nvSpPr>
          <p:spPr>
            <a:xfrm>
              <a:off x="4140360" y="3294000"/>
              <a:ext cx="85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8"/>
            <p:cNvGrpSpPr/>
            <p:nvPr/>
          </p:nvGrpSpPr>
          <p:grpSpPr>
            <a:xfrm>
              <a:off x="2313000" y="2808360"/>
              <a:ext cx="1766520" cy="985680"/>
              <a:chOff x="2313000" y="2808360"/>
              <a:chExt cx="1766520" cy="985680"/>
            </a:xfrm>
          </p:grpSpPr>
          <p:sp>
            <p:nvSpPr>
              <p:cNvPr id="196" name="Oval 9"/>
              <p:cNvSpPr/>
              <p:nvPr/>
            </p:nvSpPr>
            <p:spPr>
              <a:xfrm>
                <a:off x="2313000" y="2808360"/>
                <a:ext cx="98820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0"/>
              <p:cNvSpPr/>
              <p:nvPr/>
            </p:nvSpPr>
            <p:spPr>
              <a:xfrm>
                <a:off x="3091680" y="2808360"/>
                <a:ext cx="987840" cy="98568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1"/>
              <p:cNvSpPr/>
              <p:nvPr/>
            </p:nvSpPr>
            <p:spPr>
              <a:xfrm>
                <a:off x="2313000" y="2808360"/>
                <a:ext cx="98820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12"/>
            <p:cNvSpPr/>
            <p:nvPr/>
          </p:nvSpPr>
          <p:spPr>
            <a:xfrm>
              <a:off x="6805440" y="285264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"/>
            <p:cNvGrpSpPr/>
            <p:nvPr/>
          </p:nvGrpSpPr>
          <p:grpSpPr>
            <a:xfrm>
              <a:off x="5052960" y="2781360"/>
              <a:ext cx="1804680" cy="999720"/>
              <a:chOff x="5052960" y="2781360"/>
              <a:chExt cx="1804680" cy="999720"/>
            </a:xfrm>
          </p:grpSpPr>
          <p:sp>
            <p:nvSpPr>
              <p:cNvPr id="201" name="Oval 15"/>
              <p:cNvSpPr/>
              <p:nvPr/>
            </p:nvSpPr>
            <p:spPr>
              <a:xfrm>
                <a:off x="5052960" y="279468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6"/>
              <p:cNvSpPr/>
              <p:nvPr/>
            </p:nvSpPr>
            <p:spPr>
              <a:xfrm>
                <a:off x="5870880" y="279468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7"/>
              <p:cNvSpPr/>
              <p:nvPr/>
            </p:nvSpPr>
            <p:spPr>
              <a:xfrm>
                <a:off x="5066280" y="278136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22"/>
            <p:cNvGrpSpPr/>
            <p:nvPr/>
          </p:nvGrpSpPr>
          <p:grpSpPr>
            <a:xfrm>
              <a:off x="0" y="2822400"/>
              <a:ext cx="1779120" cy="987480"/>
              <a:chOff x="0" y="2822400"/>
              <a:chExt cx="1779120" cy="987480"/>
            </a:xfrm>
          </p:grpSpPr>
          <p:sp>
            <p:nvSpPr>
              <p:cNvPr id="205" name="Oval 5"/>
              <p:cNvSpPr/>
              <p:nvPr/>
            </p:nvSpPr>
            <p:spPr>
              <a:xfrm>
                <a:off x="0" y="2822400"/>
                <a:ext cx="987840" cy="98748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8"/>
              <p:cNvSpPr/>
              <p:nvPr/>
            </p:nvSpPr>
            <p:spPr>
              <a:xfrm>
                <a:off x="791640" y="2822400"/>
                <a:ext cx="987480" cy="9874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b50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9"/>
              <p:cNvSpPr/>
              <p:nvPr/>
            </p:nvSpPr>
            <p:spPr>
              <a:xfrm>
                <a:off x="0" y="2822400"/>
                <a:ext cx="987840" cy="98748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24"/>
            <p:cNvGrpSpPr/>
            <p:nvPr/>
          </p:nvGrpSpPr>
          <p:grpSpPr>
            <a:xfrm>
              <a:off x="7365960" y="2808360"/>
              <a:ext cx="1777680" cy="985680"/>
              <a:chOff x="7365960" y="2808360"/>
              <a:chExt cx="1777680" cy="985680"/>
            </a:xfrm>
          </p:grpSpPr>
          <p:sp>
            <p:nvSpPr>
              <p:cNvPr id="209" name="Oval 13"/>
              <p:cNvSpPr/>
              <p:nvPr/>
            </p:nvSpPr>
            <p:spPr>
              <a:xfrm>
                <a:off x="7365960" y="280836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1"/>
              <p:cNvSpPr/>
              <p:nvPr/>
            </p:nvSpPr>
            <p:spPr>
              <a:xfrm>
                <a:off x="8156160" y="280836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b50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23"/>
              <p:cNvSpPr/>
              <p:nvPr/>
            </p:nvSpPr>
            <p:spPr>
              <a:xfrm>
                <a:off x="7365960" y="280836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49019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8712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0" y="1824120"/>
            <a:ext cx="9143640" cy="1028520"/>
            <a:chOff x="0" y="1824120"/>
            <a:chExt cx="9143640" cy="1028520"/>
          </a:xfrm>
        </p:grpSpPr>
        <p:sp>
          <p:nvSpPr>
            <p:cNvPr id="214" name="Text Box 5"/>
            <p:cNvSpPr/>
            <p:nvPr/>
          </p:nvSpPr>
          <p:spPr>
            <a:xfrm>
              <a:off x="1765080" y="189540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4140360" y="2336760"/>
              <a:ext cx="85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7"/>
            <p:cNvGrpSpPr/>
            <p:nvPr/>
          </p:nvGrpSpPr>
          <p:grpSpPr>
            <a:xfrm>
              <a:off x="2313000" y="1851120"/>
              <a:ext cx="1766520" cy="985680"/>
              <a:chOff x="2313000" y="1851120"/>
              <a:chExt cx="1766520" cy="985680"/>
            </a:xfrm>
          </p:grpSpPr>
          <p:sp>
            <p:nvSpPr>
              <p:cNvPr id="217" name="Oval 8"/>
              <p:cNvSpPr/>
              <p:nvPr/>
            </p:nvSpPr>
            <p:spPr>
              <a:xfrm>
                <a:off x="2313000" y="1851120"/>
                <a:ext cx="98820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3091680" y="1851120"/>
                <a:ext cx="987840" cy="98568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2313000" y="1851120"/>
                <a:ext cx="98820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Text Box 11"/>
            <p:cNvSpPr/>
            <p:nvPr/>
          </p:nvSpPr>
          <p:spPr>
            <a:xfrm>
              <a:off x="6805440" y="189540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12"/>
            <p:cNvGrpSpPr/>
            <p:nvPr/>
          </p:nvGrpSpPr>
          <p:grpSpPr>
            <a:xfrm>
              <a:off x="5052960" y="1824120"/>
              <a:ext cx="1804680" cy="999720"/>
              <a:chOff x="5052960" y="1824120"/>
              <a:chExt cx="1804680" cy="999720"/>
            </a:xfrm>
          </p:grpSpPr>
          <p:sp>
            <p:nvSpPr>
              <p:cNvPr id="222" name="Oval 13"/>
              <p:cNvSpPr/>
              <p:nvPr/>
            </p:nvSpPr>
            <p:spPr>
              <a:xfrm>
                <a:off x="5052960" y="183744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14"/>
              <p:cNvSpPr/>
              <p:nvPr/>
            </p:nvSpPr>
            <p:spPr>
              <a:xfrm>
                <a:off x="5870880" y="183744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5"/>
              <p:cNvSpPr/>
              <p:nvPr/>
            </p:nvSpPr>
            <p:spPr>
              <a:xfrm>
                <a:off x="5066280" y="182412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16"/>
            <p:cNvGrpSpPr/>
            <p:nvPr/>
          </p:nvGrpSpPr>
          <p:grpSpPr>
            <a:xfrm>
              <a:off x="0" y="1865160"/>
              <a:ext cx="1779120" cy="987480"/>
              <a:chOff x="0" y="1865160"/>
              <a:chExt cx="1779120" cy="987480"/>
            </a:xfrm>
          </p:grpSpPr>
          <p:sp>
            <p:nvSpPr>
              <p:cNvPr id="226" name="Oval 17"/>
              <p:cNvSpPr/>
              <p:nvPr/>
            </p:nvSpPr>
            <p:spPr>
              <a:xfrm>
                <a:off x="0" y="1865160"/>
                <a:ext cx="987840" cy="98748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18"/>
              <p:cNvSpPr/>
              <p:nvPr/>
            </p:nvSpPr>
            <p:spPr>
              <a:xfrm>
                <a:off x="791640" y="1865160"/>
                <a:ext cx="987480" cy="9874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b50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0" y="1865160"/>
                <a:ext cx="987840" cy="98748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20"/>
            <p:cNvGrpSpPr/>
            <p:nvPr/>
          </p:nvGrpSpPr>
          <p:grpSpPr>
            <a:xfrm>
              <a:off x="7365960" y="1851120"/>
              <a:ext cx="1777680" cy="985680"/>
              <a:chOff x="7365960" y="1851120"/>
              <a:chExt cx="1777680" cy="985680"/>
            </a:xfrm>
          </p:grpSpPr>
          <p:sp>
            <p:nvSpPr>
              <p:cNvPr id="230" name="Oval 21"/>
              <p:cNvSpPr/>
              <p:nvPr/>
            </p:nvSpPr>
            <p:spPr>
              <a:xfrm>
                <a:off x="7365960" y="185112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8156160" y="185112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b50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7365960" y="185112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49019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Text Box 24"/>
          <p:cNvSpPr/>
          <p:nvPr/>
        </p:nvSpPr>
        <p:spPr>
          <a:xfrm>
            <a:off x="250920" y="364500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eaction where elements in different compounds exchange places, producing two new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3"/>
          <p:cNvSpPr/>
          <p:nvPr/>
        </p:nvSpPr>
        <p:spPr>
          <a:xfrm>
            <a:off x="539640" y="2708280"/>
            <a:ext cx="1440000" cy="1440000"/>
          </a:xfrm>
          <a:prstGeom prst="ellipse">
            <a:avLst/>
          </a:prstGeom>
          <a:gradFill rotWithShape="0">
            <a:gsLst>
              <a:gs pos="0">
                <a:srgbClr val="ffc1c1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2843280" y="2708280"/>
            <a:ext cx="1439640" cy="1440000"/>
          </a:xfrm>
          <a:prstGeom prst="ellipse">
            <a:avLst/>
          </a:prstGeom>
          <a:gradFill rotWithShape="0">
            <a:gsLst>
              <a:gs pos="0">
                <a:srgbClr val="c5c5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052360" y="28526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4572000" y="342900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6084720" y="2709720"/>
            <a:ext cx="2592360" cy="1440000"/>
            <a:chOff x="6084720" y="2709720"/>
            <a:chExt cx="2592360" cy="1440000"/>
          </a:xfrm>
        </p:grpSpPr>
        <p:sp>
          <p:nvSpPr>
            <p:cNvPr id="55" name="Oval 8"/>
            <p:cNvSpPr/>
            <p:nvPr/>
          </p:nvSpPr>
          <p:spPr>
            <a:xfrm>
              <a:off x="608472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723708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608472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>
                    <a:alpha val="4705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13"/>
          <p:cNvSpPr/>
          <p:nvPr/>
        </p:nvSpPr>
        <p:spPr>
          <a:xfrm>
            <a:off x="1763640" y="515772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+ B </a:t>
            </a:r>
            <a:r>
              <a:rPr b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560" y="-100080"/>
            <a:ext cx="85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5" descr="TEACH_WIKI_Pb(NO3)2"/>
          <p:cNvPicPr/>
          <p:nvPr/>
        </p:nvPicPr>
        <p:blipFill>
          <a:blip r:embed="rId1"/>
          <a:stretch/>
        </p:blipFill>
        <p:spPr>
          <a:xfrm>
            <a:off x="3851280" y="2997360"/>
            <a:ext cx="4764240" cy="3573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7" descr="berts_double"/>
          <p:cNvPicPr/>
          <p:nvPr/>
        </p:nvPicPr>
        <p:blipFill>
          <a:blip r:embed="rId2"/>
          <a:stretch/>
        </p:blipFill>
        <p:spPr>
          <a:xfrm>
            <a:off x="438120" y="2133720"/>
            <a:ext cx="3413160" cy="4464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0"/>
          <p:cNvSpPr/>
          <p:nvPr/>
        </p:nvSpPr>
        <p:spPr>
          <a:xfrm>
            <a:off x="796320" y="1125360"/>
            <a:ext cx="7495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K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1015411"/>
          <p:cNvPicPr/>
          <p:nvPr/>
        </p:nvPicPr>
        <p:blipFill>
          <a:blip r:embed="rId1"/>
          <a:stretch/>
        </p:blipFill>
        <p:spPr>
          <a:xfrm>
            <a:off x="304920" y="3581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17-water_bottle"/>
          <p:cNvPicPr/>
          <p:nvPr/>
        </p:nvPicPr>
        <p:blipFill>
          <a:blip r:embed="rId2"/>
          <a:stretch/>
        </p:blipFill>
        <p:spPr>
          <a:xfrm>
            <a:off x="4419720" y="32767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7"/>
          <p:cNvSpPr/>
          <p:nvPr/>
        </p:nvSpPr>
        <p:spPr>
          <a:xfrm>
            <a:off x="3581280" y="43434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6324480" y="4495680"/>
            <a:ext cx="685800" cy="685800"/>
          </a:xfrm>
          <a:prstGeom prst="plus">
            <a:avLst>
              <a:gd name="adj" fmla="val 41319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Salt%2520Shaker"/>
          <p:cNvPicPr/>
          <p:nvPr/>
        </p:nvPicPr>
        <p:blipFill>
          <a:blip r:embed="rId3"/>
          <a:stretch/>
        </p:blipFill>
        <p:spPr>
          <a:xfrm>
            <a:off x="7143840" y="350532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0"/>
          <p:cNvSpPr/>
          <p:nvPr/>
        </p:nvSpPr>
        <p:spPr>
          <a:xfrm>
            <a:off x="-76320" y="55627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Corro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corro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46eba"/>
                </a:solidFill>
                <a:latin typeface="Arial"/>
              </a:rPr>
              <a:t>non-corro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946eba"/>
                </a:solidFill>
                <a:latin typeface="Arial"/>
              </a:rPr>
              <a:t>non-corro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250920" y="-100080"/>
            <a:ext cx="8569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5280" y="105264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eutralization reaction: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 Special type of double displacement reaction</a:t>
            </a: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191628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HCl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+ NaOH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l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+ NaCl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br>
              <a:rPr sz="2800"/>
            </a:br>
            <a:br>
              <a:rPr sz="2800"/>
            </a:b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Hydrochloric acid + sodium hydroxid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water + salt (sodium chlor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Antacid-L478"/>
          <p:cNvPicPr/>
          <p:nvPr/>
        </p:nvPicPr>
        <p:blipFill>
          <a:blip r:embed="rId1"/>
          <a:stretch/>
        </p:blipFill>
        <p:spPr>
          <a:xfrm>
            <a:off x="2268360" y="2060640"/>
            <a:ext cx="4619880" cy="30798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0" y="76500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Neutralization Reaction Example: Antacids neutralize stomach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2HCl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Ca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CaCl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 </a:t>
            </a:r>
            <a:r>
              <a:rPr b="1" lang="en-US" sz="28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(l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(g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"/>
          <p:cNvSpPr/>
          <p:nvPr/>
        </p:nvSpPr>
        <p:spPr>
          <a:xfrm flipH="1">
            <a:off x="3123720" y="5715000"/>
            <a:ext cx="3886200" cy="304920"/>
          </a:xfrm>
          <a:prstGeom prst="line">
            <a:avLst/>
          </a:prstGeom>
          <a:ln w="57240">
            <a:solidFill>
              <a:srgbClr val="5d9d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50920" y="-100080"/>
            <a:ext cx="8569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324000" y="2276640"/>
            <a:ext cx="143964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2700360" y="2276640"/>
            <a:ext cx="144000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909440" y="234936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4356000" y="299736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2"/>
          <p:cNvSpPr/>
          <p:nvPr/>
        </p:nvSpPr>
        <p:spPr>
          <a:xfrm>
            <a:off x="5543640" y="1341360"/>
            <a:ext cx="3384360" cy="3240000"/>
          </a:xfrm>
          <a:prstGeom prst="irregularSeal2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755640" y="4869000"/>
            <a:ext cx="77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reaction of a fuel with oxygen, producing energy in the form of heat and/or 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6300720" y="2133720"/>
            <a:ext cx="144000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6920" y="-27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0" y="2084400"/>
            <a:ext cx="9143640" cy="4657320"/>
            <a:chOff x="0" y="2084400"/>
            <a:chExt cx="9143640" cy="4657320"/>
          </a:xfrm>
        </p:grpSpPr>
        <p:pic>
          <p:nvPicPr>
            <p:cNvPr id="262" name="Picture 10" descr="11"/>
            <p:cNvPicPr/>
            <p:nvPr/>
          </p:nvPicPr>
          <p:blipFill>
            <a:blip r:embed="rId1"/>
            <a:stretch/>
          </p:blipFill>
          <p:spPr>
            <a:xfrm>
              <a:off x="0" y="2084400"/>
              <a:ext cx="6016320" cy="46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2" descr="WUI_Picnic_Rock_Fire_BLM"/>
            <p:cNvPicPr/>
            <p:nvPr/>
          </p:nvPicPr>
          <p:blipFill>
            <a:blip r:embed="rId2"/>
            <a:stretch/>
          </p:blipFill>
          <p:spPr>
            <a:xfrm>
              <a:off x="2937240" y="2084400"/>
              <a:ext cx="6206400" cy="465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Group 29"/>
          <p:cNvGrpSpPr/>
          <p:nvPr/>
        </p:nvGrpSpPr>
        <p:grpSpPr>
          <a:xfrm>
            <a:off x="2124000" y="357480"/>
            <a:ext cx="5254200" cy="2088720"/>
            <a:chOff x="2124000" y="357480"/>
            <a:chExt cx="5254200" cy="2088720"/>
          </a:xfrm>
        </p:grpSpPr>
        <p:sp>
          <p:nvSpPr>
            <p:cNvPr id="265" name="Oval 21"/>
            <p:cNvSpPr/>
            <p:nvPr/>
          </p:nvSpPr>
          <p:spPr>
            <a:xfrm>
              <a:off x="2124000" y="1036800"/>
              <a:ext cx="861840" cy="860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fue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3546360" y="1036800"/>
              <a:ext cx="860400" cy="860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3085200" y="115416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4"/>
            <p:cNvSpPr/>
            <p:nvPr/>
          </p:nvSpPr>
          <p:spPr>
            <a:xfrm>
              <a:off x="4537080" y="1467000"/>
              <a:ext cx="77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25"/>
            <p:cNvSpPr/>
            <p:nvPr/>
          </p:nvSpPr>
          <p:spPr>
            <a:xfrm rot="1993800">
              <a:off x="5364000" y="743040"/>
              <a:ext cx="1800360" cy="1317600"/>
            </a:xfrm>
            <a:prstGeom prst="irregularSeal2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6"/>
            <p:cNvSpPr/>
            <p:nvPr/>
          </p:nvSpPr>
          <p:spPr>
            <a:xfrm>
              <a:off x="5700600" y="951120"/>
              <a:ext cx="860400" cy="861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32"/>
          <p:cNvSpPr/>
          <p:nvPr/>
        </p:nvSpPr>
        <p:spPr>
          <a:xfrm rot="1993800">
            <a:off x="6948360" y="836640"/>
            <a:ext cx="1800360" cy="131760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6920" y="-27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3"/>
          <p:cNvSpPr/>
          <p:nvPr/>
        </p:nvSpPr>
        <p:spPr>
          <a:xfrm>
            <a:off x="900000" y="692280"/>
            <a:ext cx="748836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 +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energ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8"/>
          <p:cNvSpPr/>
          <p:nvPr/>
        </p:nvSpPr>
        <p:spPr>
          <a:xfrm>
            <a:off x="6300720" y="2133720"/>
            <a:ext cx="144000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34"/>
          <p:cNvGrpSpPr/>
          <p:nvPr/>
        </p:nvGrpSpPr>
        <p:grpSpPr>
          <a:xfrm>
            <a:off x="-252360" y="2198520"/>
            <a:ext cx="5545080" cy="4611960"/>
            <a:chOff x="-252360" y="2198520"/>
            <a:chExt cx="5545080" cy="4611960"/>
          </a:xfrm>
        </p:grpSpPr>
        <p:pic>
          <p:nvPicPr>
            <p:cNvPr id="276" name="Picture 20" descr="mg_2"/>
            <p:cNvPicPr/>
            <p:nvPr/>
          </p:nvPicPr>
          <p:blipFill>
            <a:blip r:embed="rId1"/>
            <a:stretch/>
          </p:blipFill>
          <p:spPr>
            <a:xfrm>
              <a:off x="-252360" y="2657520"/>
              <a:ext cx="554508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25"/>
            <p:cNvSpPr/>
            <p:nvPr/>
          </p:nvSpPr>
          <p:spPr>
            <a:xfrm>
              <a:off x="237960" y="2198520"/>
              <a:ext cx="364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Mg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(s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(g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2Mg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(s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35"/>
          <p:cNvGrpSpPr/>
          <p:nvPr/>
        </p:nvGrpSpPr>
        <p:grpSpPr>
          <a:xfrm>
            <a:off x="4356000" y="2205000"/>
            <a:ext cx="4788000" cy="4608720"/>
            <a:chOff x="4356000" y="2205000"/>
            <a:chExt cx="4788000" cy="4608720"/>
          </a:xfrm>
        </p:grpSpPr>
        <p:pic>
          <p:nvPicPr>
            <p:cNvPr id="279" name="Picture 24" descr="130717014_b5e2222f6c"/>
            <p:cNvPicPr/>
            <p:nvPr/>
          </p:nvPicPr>
          <p:blipFill>
            <a:blip r:embed="rId2"/>
            <a:stretch/>
          </p:blipFill>
          <p:spPr>
            <a:xfrm>
              <a:off x="4356000" y="2657520"/>
              <a:ext cx="4788000" cy="41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26"/>
            <p:cNvSpPr/>
            <p:nvPr/>
          </p:nvSpPr>
          <p:spPr>
            <a:xfrm>
              <a:off x="5139720" y="2205000"/>
              <a:ext cx="3463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4(s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5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(g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0(g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-27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174240" y="2637000"/>
            <a:ext cx="86256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ype: COMPLETE COMBU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drocarbon + oxyge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rbon dioxide + water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.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539640" y="1197000"/>
            <a:ext cx="819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hen burning a fuel, there are two types of combustion to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26920" y="-27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246600" y="981000"/>
            <a:ext cx="866484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ype: INCOMPLETE COMBU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drocarbon + oxygen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arbon dioxide + water + carbon monoxide + carbon +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.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5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5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3059280" y="2062080"/>
            <a:ext cx="3816360" cy="1150920"/>
            <a:chOff x="3059280" y="2062080"/>
            <a:chExt cx="3816360" cy="1150920"/>
          </a:xfrm>
        </p:grpSpPr>
        <p:sp>
          <p:nvSpPr>
            <p:cNvPr id="287" name="Oval 4"/>
            <p:cNvSpPr/>
            <p:nvPr/>
          </p:nvSpPr>
          <p:spPr>
            <a:xfrm>
              <a:off x="5939280" y="2062080"/>
              <a:ext cx="936360" cy="792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5"/>
            <p:cNvSpPr/>
            <p:nvPr/>
          </p:nvSpPr>
          <p:spPr>
            <a:xfrm>
              <a:off x="3059280" y="2710080"/>
              <a:ext cx="2952720" cy="502920"/>
            </a:xfrm>
            <a:prstGeom prst="wedgeRoundRectCallout">
              <a:avLst>
                <a:gd name="adj1" fmla="val 55324"/>
                <a:gd name="adj2" fmla="val -42430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OISONOUS!!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0"/>
          <p:cNvGrpSpPr/>
          <p:nvPr/>
        </p:nvGrpSpPr>
        <p:grpSpPr>
          <a:xfrm>
            <a:off x="5148360" y="2062080"/>
            <a:ext cx="2519280" cy="1727280"/>
            <a:chOff x="5148360" y="2062080"/>
            <a:chExt cx="2519280" cy="1727280"/>
          </a:xfrm>
        </p:grpSpPr>
        <p:sp>
          <p:nvSpPr>
            <p:cNvPr id="290" name="Oval 8"/>
            <p:cNvSpPr/>
            <p:nvPr/>
          </p:nvSpPr>
          <p:spPr>
            <a:xfrm>
              <a:off x="7020000" y="2062080"/>
              <a:ext cx="647640" cy="792360"/>
            </a:xfrm>
            <a:prstGeom prst="ellipse">
              <a:avLst/>
            </a:prstGeom>
            <a:noFill/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9"/>
            <p:cNvSpPr/>
            <p:nvPr/>
          </p:nvSpPr>
          <p:spPr>
            <a:xfrm>
              <a:off x="5148360" y="3286080"/>
              <a:ext cx="2160360" cy="503280"/>
            </a:xfrm>
            <a:prstGeom prst="wedgeRoundRectCallout">
              <a:avLst>
                <a:gd name="adj1" fmla="val 51986"/>
                <a:gd name="adj2" fmla="val -141166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BLACK!!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12" descr="200718P2"/>
          <p:cNvPicPr/>
          <p:nvPr/>
        </p:nvPicPr>
        <p:blipFill>
          <a:blip r:embed="rId1"/>
          <a:stretch/>
        </p:blipFill>
        <p:spPr>
          <a:xfrm>
            <a:off x="0" y="3517920"/>
            <a:ext cx="5003640" cy="3340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4" descr="hydrocarbonemissions"/>
          <p:cNvPicPr/>
          <p:nvPr/>
        </p:nvPicPr>
        <p:blipFill>
          <a:blip r:embed="rId2"/>
          <a:stretch/>
        </p:blipFill>
        <p:spPr>
          <a:xfrm>
            <a:off x="5148360" y="3860640"/>
            <a:ext cx="39956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1404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930400" y="1700280"/>
            <a:ext cx="31068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 + 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21480" y="2781360"/>
            <a:ext cx="8061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Are the reactants in their pure elemental form (i.e.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g, 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91320" y="3357720"/>
            <a:ext cx="649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YNTHESIS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468360" y="4437000"/>
            <a:ext cx="763272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K + 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K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395280" y="364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re should only be ONE product, and it should contain both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1404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275280" y="1700280"/>
            <a:ext cx="241056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319680" y="2781360"/>
            <a:ext cx="38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Is there only ONE react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88080" y="3357720"/>
            <a:ext cx="722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ECOMPOSITION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395280" y="3645000"/>
            <a:ext cx="7993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re should be two products, each being a separate element (i.e. Na, Ca, 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B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lthough that is not always th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2278800" y="4869000"/>
            <a:ext cx="452592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H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+ O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"/>
          <p:cNvSpPr/>
          <p:nvPr/>
        </p:nvSpPr>
        <p:spPr>
          <a:xfrm>
            <a:off x="466560" y="1771560"/>
            <a:ext cx="1440000" cy="1440000"/>
          </a:xfrm>
          <a:prstGeom prst="ellipse">
            <a:avLst/>
          </a:prstGeom>
          <a:gradFill rotWithShape="0">
            <a:gsLst>
              <a:gs pos="0">
                <a:srgbClr val="ffc1c1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2770200" y="1771560"/>
            <a:ext cx="1440000" cy="1440000"/>
          </a:xfrm>
          <a:prstGeom prst="ellipse">
            <a:avLst/>
          </a:prstGeom>
          <a:gradFill rotWithShape="0">
            <a:gsLst>
              <a:gs pos="0">
                <a:srgbClr val="c5c5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979640" y="191628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4498920" y="249228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6012000" y="1773360"/>
            <a:ext cx="2592360" cy="1439640"/>
            <a:chOff x="6012000" y="1773360"/>
            <a:chExt cx="2592360" cy="1439640"/>
          </a:xfrm>
        </p:grpSpPr>
        <p:sp>
          <p:nvSpPr>
            <p:cNvPr id="65" name="Oval 8"/>
            <p:cNvSpPr/>
            <p:nvPr/>
          </p:nvSpPr>
          <p:spPr>
            <a:xfrm>
              <a:off x="6012000" y="177336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>
              <a:off x="7164360" y="177336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>
              <a:off x="6012000" y="177336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>
                    <a:alpha val="4705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13"/>
          <p:cNvSpPr/>
          <p:nvPr/>
        </p:nvSpPr>
        <p:spPr>
          <a:xfrm>
            <a:off x="1476360" y="3860640"/>
            <a:ext cx="6500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eaction where two reactants combine to make a larger, more complex 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560" y="1404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184560" y="1700280"/>
            <a:ext cx="259092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319680" y="2781360"/>
            <a:ext cx="38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Is there only ONE react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88080" y="3357720"/>
            <a:ext cx="722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ECOMPOSITION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395280" y="3645000"/>
            <a:ext cx="7993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re should be two products, each being a separate element (i.e. Na, Ca, 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B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although that is not always th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1970640" y="4869000"/>
            <a:ext cx="51408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H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 + O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560" y="1404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395800" y="1700280"/>
            <a:ext cx="416628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n + Sn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312480" y="2781360"/>
            <a:ext cx="81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If there are 2 reactants, is one of them a pure metal on its ow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90240" y="3357720"/>
            <a:ext cx="80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INGLE DISPLACEMENT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395280" y="364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 metal that is on its own must take the place of the other metal that is in the larger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1279800" y="4797360"/>
            <a:ext cx="65988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n + Sn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nCl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+ S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1404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946160" y="1700280"/>
            <a:ext cx="50670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Cl + AgN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19320" y="2781360"/>
            <a:ext cx="515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Are both of the reactants compou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389880" y="3357720"/>
            <a:ext cx="82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OUBLE DISPLACEMENT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395280" y="364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 two metals must switch places with one another, forming two new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344160" y="4724280"/>
            <a:ext cx="840024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Cl + AgN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NO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+ Ag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0560" y="1404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482560" y="1700280"/>
            <a:ext cx="399132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318960" y="2781360"/>
            <a:ext cx="48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Is one of the reactants oxygen g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395280" y="33577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COMBUSTION REACTION (as well as a SYNTHESIS RE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395280" y="4022640"/>
            <a:ext cx="7993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 products must be an oxide and energy. If one of the reactants is a hydrocarbon, then 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 are the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63720" y="5040360"/>
            <a:ext cx="900684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25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+ 18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 +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1311120" y="1287360"/>
            <a:ext cx="6500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1"/>
          <p:cNvPicPr/>
          <p:nvPr/>
        </p:nvPicPr>
        <p:blipFill>
          <a:blip r:embed="rId1"/>
          <a:stretch/>
        </p:blipFill>
        <p:spPr>
          <a:xfrm>
            <a:off x="141120" y="2637000"/>
            <a:ext cx="2971800" cy="396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2"/>
          <p:cNvPicPr/>
          <p:nvPr/>
        </p:nvPicPr>
        <p:blipFill>
          <a:blip r:embed="rId2"/>
          <a:stretch/>
        </p:blipFill>
        <p:spPr>
          <a:xfrm>
            <a:off x="3112920" y="2637000"/>
            <a:ext cx="2971800" cy="396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3"/>
          <p:cNvPicPr/>
          <p:nvPr/>
        </p:nvPicPr>
        <p:blipFill>
          <a:blip r:embed="rId3"/>
          <a:stretch/>
        </p:blipFill>
        <p:spPr>
          <a:xfrm>
            <a:off x="6066000" y="2637000"/>
            <a:ext cx="297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mposi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"/>
          <p:cNvSpPr/>
          <p:nvPr/>
        </p:nvSpPr>
        <p:spPr>
          <a:xfrm>
            <a:off x="5076720" y="2708280"/>
            <a:ext cx="1440000" cy="1440000"/>
          </a:xfrm>
          <a:prstGeom prst="ellipse">
            <a:avLst/>
          </a:prstGeom>
          <a:gradFill rotWithShape="0">
            <a:gsLst>
              <a:gs pos="0">
                <a:srgbClr val="ffc1c1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7380360" y="2708280"/>
            <a:ext cx="1439640" cy="1440000"/>
          </a:xfrm>
          <a:prstGeom prst="ellipse">
            <a:avLst/>
          </a:prstGeom>
          <a:gradFill rotWithShape="0">
            <a:gsLst>
              <a:gs pos="0">
                <a:srgbClr val="c5c5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589440" y="28526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419640" y="342900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7"/>
          <p:cNvGrpSpPr/>
          <p:nvPr/>
        </p:nvGrpSpPr>
        <p:grpSpPr>
          <a:xfrm>
            <a:off x="468360" y="2709720"/>
            <a:ext cx="2592360" cy="1440000"/>
            <a:chOff x="468360" y="2709720"/>
            <a:chExt cx="2592360" cy="1440000"/>
          </a:xfrm>
        </p:grpSpPr>
        <p:sp>
          <p:nvSpPr>
            <p:cNvPr id="80" name="Oval 8"/>
            <p:cNvSpPr/>
            <p:nvPr/>
          </p:nvSpPr>
          <p:spPr>
            <a:xfrm>
              <a:off x="46836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9"/>
            <p:cNvSpPr/>
            <p:nvPr/>
          </p:nvSpPr>
          <p:spPr>
            <a:xfrm>
              <a:off x="162072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46836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>
                    <a:alpha val="4705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11"/>
          <p:cNvSpPr/>
          <p:nvPr/>
        </p:nvSpPr>
        <p:spPr>
          <a:xfrm>
            <a:off x="1763640" y="515772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A + 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1"/>
          <p:cNvSpPr/>
          <p:nvPr/>
        </p:nvSpPr>
        <p:spPr>
          <a:xfrm>
            <a:off x="1403280" y="3573360"/>
            <a:ext cx="6500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eaction where a more complex molecule breaks down to form two or more simpler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8269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mposi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5076720" y="1482840"/>
            <a:ext cx="1440000" cy="1439640"/>
          </a:xfrm>
          <a:prstGeom prst="ellipse">
            <a:avLst/>
          </a:prstGeom>
          <a:gradFill rotWithShape="0">
            <a:gsLst>
              <a:gs pos="0">
                <a:srgbClr val="ffc1c1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7380360" y="1482840"/>
            <a:ext cx="1439640" cy="1439640"/>
          </a:xfrm>
          <a:prstGeom prst="ellipse">
            <a:avLst/>
          </a:prstGeom>
          <a:gradFill rotWithShape="0">
            <a:gsLst>
              <a:gs pos="0">
                <a:srgbClr val="c5c5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589440" y="16272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3419640" y="220356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8"/>
          <p:cNvGrpSpPr/>
          <p:nvPr/>
        </p:nvGrpSpPr>
        <p:grpSpPr>
          <a:xfrm>
            <a:off x="468360" y="1484280"/>
            <a:ext cx="2592360" cy="1440000"/>
            <a:chOff x="468360" y="1484280"/>
            <a:chExt cx="2592360" cy="1440000"/>
          </a:xfrm>
        </p:grpSpPr>
        <p:sp>
          <p:nvSpPr>
            <p:cNvPr id="91" name="Oval 19"/>
            <p:cNvSpPr/>
            <p:nvPr/>
          </p:nvSpPr>
          <p:spPr>
            <a:xfrm>
              <a:off x="468360" y="148428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1620720" y="148428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468360" y="148428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>
                    <a:alpha val="4705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12682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4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2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269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mposi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britannica"/>
          <p:cNvPicPr/>
          <p:nvPr/>
        </p:nvPicPr>
        <p:blipFill>
          <a:blip r:embed="rId1"/>
          <a:stretch/>
        </p:blipFill>
        <p:spPr>
          <a:xfrm>
            <a:off x="0" y="2565360"/>
            <a:ext cx="4067280" cy="2798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"/>
          <p:cNvSpPr/>
          <p:nvPr/>
        </p:nvSpPr>
        <p:spPr>
          <a:xfrm>
            <a:off x="0" y="5367240"/>
            <a:ext cx="40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thy McVeigh bombing, 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6" descr="4E_demolition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3143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7"/>
          <p:cNvSpPr/>
          <p:nvPr/>
        </p:nvSpPr>
        <p:spPr>
          <a:xfrm>
            <a:off x="4427640" y="566100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building demolition with ammonium nitrate explos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12682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KCl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energy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269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mposi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265"/>
          <p:cNvPicPr/>
          <p:nvPr/>
        </p:nvPicPr>
        <p:blipFill>
          <a:blip r:embed="rId1"/>
          <a:stretch/>
        </p:blipFill>
        <p:spPr>
          <a:xfrm>
            <a:off x="2700360" y="2565360"/>
            <a:ext cx="41241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763640" y="486900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+ BC </a:t>
            </a:r>
            <a:r>
              <a:rPr b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AC + 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5"/>
          <p:cNvGrpSpPr/>
          <p:nvPr/>
        </p:nvGrpSpPr>
        <p:grpSpPr>
          <a:xfrm>
            <a:off x="90360" y="2516040"/>
            <a:ext cx="8945640" cy="1200240"/>
            <a:chOff x="90360" y="2516040"/>
            <a:chExt cx="8945640" cy="1200240"/>
          </a:xfrm>
        </p:grpSpPr>
        <p:sp>
          <p:nvSpPr>
            <p:cNvPr id="106" name="Oval 3"/>
            <p:cNvSpPr/>
            <p:nvPr/>
          </p:nvSpPr>
          <p:spPr>
            <a:xfrm>
              <a:off x="90360" y="2548080"/>
              <a:ext cx="1168560" cy="11682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5"/>
            <p:cNvSpPr/>
            <p:nvPr/>
          </p:nvSpPr>
          <p:spPr>
            <a:xfrm>
              <a:off x="1260360" y="2548080"/>
              <a:ext cx="669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6"/>
            <p:cNvSpPr/>
            <p:nvPr/>
          </p:nvSpPr>
          <p:spPr>
            <a:xfrm>
              <a:off x="4068720" y="3124080"/>
              <a:ext cx="100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23"/>
            <p:cNvGrpSpPr/>
            <p:nvPr/>
          </p:nvGrpSpPr>
          <p:grpSpPr>
            <a:xfrm>
              <a:off x="1908000" y="2548080"/>
              <a:ext cx="2089080" cy="1168200"/>
              <a:chOff x="1908000" y="2548080"/>
              <a:chExt cx="2089080" cy="1168200"/>
            </a:xfrm>
          </p:grpSpPr>
          <p:sp>
            <p:nvSpPr>
              <p:cNvPr id="110" name="Oval 4"/>
              <p:cNvSpPr/>
              <p:nvPr/>
            </p:nvSpPr>
            <p:spPr>
              <a:xfrm>
                <a:off x="1908000" y="2548080"/>
                <a:ext cx="1168560" cy="116820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2"/>
              <p:cNvSpPr/>
              <p:nvPr/>
            </p:nvSpPr>
            <p:spPr>
              <a:xfrm>
                <a:off x="2828880" y="25480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3"/>
              <p:cNvSpPr/>
              <p:nvPr/>
            </p:nvSpPr>
            <p:spPr>
              <a:xfrm>
                <a:off x="1908000" y="2548080"/>
                <a:ext cx="1168560" cy="116820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17"/>
            <p:cNvSpPr/>
            <p:nvPr/>
          </p:nvSpPr>
          <p:spPr>
            <a:xfrm>
              <a:off x="7237440" y="2548080"/>
              <a:ext cx="669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9"/>
            <p:cNvSpPr/>
            <p:nvPr/>
          </p:nvSpPr>
          <p:spPr>
            <a:xfrm>
              <a:off x="7867800" y="2531880"/>
              <a:ext cx="1168200" cy="116856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24"/>
            <p:cNvGrpSpPr/>
            <p:nvPr/>
          </p:nvGrpSpPr>
          <p:grpSpPr>
            <a:xfrm>
              <a:off x="5148360" y="2516040"/>
              <a:ext cx="2136600" cy="1184040"/>
              <a:chOff x="5148360" y="2516040"/>
              <a:chExt cx="2136600" cy="1184040"/>
            </a:xfrm>
          </p:grpSpPr>
          <p:sp>
            <p:nvSpPr>
              <p:cNvPr id="116" name="Oval 16"/>
              <p:cNvSpPr/>
              <p:nvPr/>
            </p:nvSpPr>
            <p:spPr>
              <a:xfrm>
                <a:off x="5148360" y="25318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20"/>
              <p:cNvSpPr/>
              <p:nvPr/>
            </p:nvSpPr>
            <p:spPr>
              <a:xfrm>
                <a:off x="6116760" y="25318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22"/>
              <p:cNvSpPr/>
              <p:nvPr/>
            </p:nvSpPr>
            <p:spPr>
              <a:xfrm>
                <a:off x="5164200" y="251604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22:20:58Z</dcterms:created>
  <dc:creator>Alan</dc:creator>
  <dc:description/>
  <dc:language>en-US</dc:language>
  <cp:lastModifiedBy>rubina khan</cp:lastModifiedBy>
  <dcterms:modified xsi:type="dcterms:W3CDTF">2017-09-22T15:06:14Z</dcterms:modified>
  <cp:revision>68</cp:revision>
  <dc:subject/>
  <dc:title>Types of Chemical Reactions</dc:title>
</cp:coreProperties>
</file>